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884-0635-49C5-902C-AC46BCA441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2A4-5CCE-4F17-820C-5BFDA35C03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4AF1-4769-418A-AD94-F09C0A3E45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F82-D2B8-44B8-9DBC-5457DDFF91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povert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higher in Scotland and, if so, wh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02C1-96C1-48EF-B411-849CA81CDD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C44-A5E6-4776-B5A3-B6541DC4CD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3D00-0884-4311-88A2-29DC368495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SE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F89-A7CA-4EFA-B68A-9B89A2C86A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6032-4C5C-4478-B3F3-669B089C93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F4DE-E536-4191-AFCE-7E37E873CA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7F86-F2B9-4468-8495-03CB802757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B324-7F26-4D35-95B7-89694636E3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B3C6-63D1-4E54-B3B5-B30E6E0EE5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EBC1-4437-4A42-A5BB-B4BAD5E77D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8EF-DD88-4AB1-BBC1-11CD24746E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BA57-4B4F-4174-B9C6-19A0693EFC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592C-5630-43B3-99C8-C07F8C741C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B22-2031-4E74-9240-4B43B5B0BA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0846-6167-4500-9B11-7F9F7E5775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12D0-70C1-4735-905A-4C2918ED1F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D2A-7065-4673-B533-2C51B3744C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811-08D9-4833-BB1C-A09A8CFE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2F7-7807-4AD6-BCD5-1BE35D9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054-ED46-4029-8D08-5D6A1E8B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CDD-AF5F-4CEE-9F6C-10D63433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6B4-79C1-4662-A94B-2794E2B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7D0-F99B-4E8D-AD97-EFDCFEF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133-2FBD-4F8C-9A5B-6C2E1CB4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57A-C797-4BAD-8AF6-E5B4435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1A1-D4BD-4AA1-9049-B12AE02D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BF7-D3F9-45AD-9722-4081423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EAA-D7C4-4833-B800-5BDECA8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0A8-8503-40FF-949E-09170FA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BBA5-4EB4-4292-9DC4-4E495252CB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63272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ck Bailey, Kirsten Besemer, Glen Bramley &amp; Maria Gan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versity of Glasgow/Heriot-Watt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rivations by contemporary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476280" y="2328840"/>
            <a:ext cx="82342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Subtitle 2" descr=""/>
          <p:cNvPicPr/>
          <p:nvPr/>
        </p:nvPicPr>
        <p:blipFill>
          <a:blip r:embed="rId1"/>
          <a:stretch/>
        </p:blipFill>
        <p:spPr>
          <a:xfrm>
            <a:off x="360360" y="1481040"/>
            <a:ext cx="8326440" cy="403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2"/>
          <a:stretch/>
        </p:blipFill>
        <p:spPr>
          <a:xfrm>
            <a:off x="109440" y="933480"/>
            <a:ext cx="9053640" cy="5924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956200" y="1009800"/>
            <a:ext cx="2192400" cy="58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948200" y="938160"/>
            <a:ext cx="2192400" cy="58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868560" y="938160"/>
            <a:ext cx="219096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787480" y="1009800"/>
            <a:ext cx="2192400" cy="56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SE 1999 v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SE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hart 6" descr=""/>
          <p:cNvPicPr/>
          <p:nvPr/>
        </p:nvPicPr>
        <p:blipFill>
          <a:blip r:embed="rId1"/>
          <a:stretch/>
        </p:blipFill>
        <p:spPr>
          <a:xfrm>
            <a:off x="0" y="42840"/>
            <a:ext cx="4498920" cy="3316320"/>
          </a:xfrm>
          <a:prstGeom prst="rect">
            <a:avLst/>
          </a:prstGeom>
          <a:ln w="0">
            <a:noFill/>
          </a:ln>
        </p:spPr>
      </p:pic>
      <p:pic>
        <p:nvPicPr>
          <p:cNvPr id="102" name="Chart 7" descr=""/>
          <p:cNvPicPr/>
          <p:nvPr/>
        </p:nvPicPr>
        <p:blipFill>
          <a:blip r:embed="rId2"/>
          <a:stretch/>
        </p:blipFill>
        <p:spPr>
          <a:xfrm>
            <a:off x="-152280" y="3205080"/>
            <a:ext cx="4732200" cy="3802320"/>
          </a:xfrm>
          <a:prstGeom prst="rect">
            <a:avLst/>
          </a:prstGeom>
          <a:ln w="0">
            <a:noFill/>
          </a:ln>
        </p:spPr>
      </p:pic>
      <p:pic>
        <p:nvPicPr>
          <p:cNvPr id="103" name="Chart 8" descr=""/>
          <p:cNvPicPr/>
          <p:nvPr/>
        </p:nvPicPr>
        <p:blipFill>
          <a:blip r:embed="rId3"/>
          <a:stretch/>
        </p:blipFill>
        <p:spPr>
          <a:xfrm>
            <a:off x="4275000" y="3205080"/>
            <a:ext cx="500868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971640" y="1441440"/>
            <a:ext cx="6985080" cy="4997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24000" y="652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Bailey (2014) - FRS/HBAI s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36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lative Risks of low income pover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otland vs RoUK (BHC and AHC) – 2000/1 to 2011/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294760" cy="44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596360" y="220500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Higher in Scotland than Ro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631280" y="50133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ower in 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han Ro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24000" y="652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Bailey (2014) - FRS/HBAI s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lative Risks of low income poverty – U65 and 65+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otland vs RoUK (AHC) – 2000/1 to 2011/1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826920" y="2038320"/>
            <a:ext cx="7581960" cy="42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hart 5" descr=""/>
          <p:cNvPicPr/>
          <p:nvPr/>
        </p:nvPicPr>
        <p:blipFill>
          <a:blip r:embed="rId1"/>
          <a:stretch/>
        </p:blipFill>
        <p:spPr>
          <a:xfrm>
            <a:off x="-6480" y="0"/>
            <a:ext cx="4578480" cy="3475080"/>
          </a:xfrm>
          <a:prstGeom prst="rect">
            <a:avLst/>
          </a:prstGeom>
          <a:ln w="0">
            <a:noFill/>
          </a:ln>
        </p:spPr>
      </p:pic>
      <p:pic>
        <p:nvPicPr>
          <p:cNvPr id="116" name="Chart 7" descr=""/>
          <p:cNvPicPr/>
          <p:nvPr/>
        </p:nvPicPr>
        <p:blipFill>
          <a:blip r:embed="rId2"/>
          <a:stretch/>
        </p:blipFill>
        <p:spPr>
          <a:xfrm>
            <a:off x="0" y="3498840"/>
            <a:ext cx="4578480" cy="3041640"/>
          </a:xfrm>
          <a:prstGeom prst="rect">
            <a:avLst/>
          </a:prstGeom>
          <a:ln w="0">
            <a:noFill/>
          </a:ln>
        </p:spPr>
      </p:pic>
      <p:pic>
        <p:nvPicPr>
          <p:cNvPr id="117" name="Chart 8" descr=""/>
          <p:cNvPicPr/>
          <p:nvPr/>
        </p:nvPicPr>
        <p:blipFill>
          <a:blip r:embed="rId3"/>
          <a:stretch/>
        </p:blipFill>
        <p:spPr>
          <a:xfrm>
            <a:off x="4572000" y="0"/>
            <a:ext cx="4565520" cy="3213000"/>
          </a:xfrm>
          <a:prstGeom prst="rect">
            <a:avLst/>
          </a:prstGeom>
          <a:ln w="0">
            <a:noFill/>
          </a:ln>
        </p:spPr>
      </p:pic>
      <p:pic>
        <p:nvPicPr>
          <p:cNvPr id="118" name="Chart 9" descr=""/>
          <p:cNvPicPr/>
          <p:nvPr/>
        </p:nvPicPr>
        <p:blipFill>
          <a:blip r:embed="rId4"/>
          <a:stretch/>
        </p:blipFill>
        <p:spPr>
          <a:xfrm>
            <a:off x="4565520" y="3425760"/>
            <a:ext cx="4657680" cy="304164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le 10"/>
          <p:cNvSpPr/>
          <p:nvPr/>
        </p:nvSpPr>
        <p:spPr>
          <a:xfrm>
            <a:off x="900000" y="404640"/>
            <a:ext cx="647640" cy="1584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360"/>
              <a:gd name="textAreaBottom" fmla="*/ 1553040 h 1584360"/>
            </a:gdLst>
            <a:ahLst/>
            <a:rect l="textAreaLeft" t="textAreaTop" r="textAreaRight" b="textAreaBottom"/>
            <a:pathLst>
              <a:path w="21600" h="52824">
                <a:moveTo>
                  <a:pt x="3600" y="0"/>
                </a:moveTo>
                <a:arcTo wR="3600" hR="3600" stAng="16200000" swAng="-5400000"/>
                <a:lnTo>
                  <a:pt x="0" y="49224"/>
                </a:lnTo>
                <a:arcTo wR="3600" hR="3600" stAng="10800000" swAng="-5400000"/>
                <a:lnTo>
                  <a:pt x="18000" y="5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1909800" y="290520"/>
            <a:ext cx="471600" cy="1584360"/>
          </a:xfrm>
          <a:custGeom>
            <a:avLst/>
            <a:gdLst>
              <a:gd name="textAreaLeft" fmla="*/ 22680 w 471600"/>
              <a:gd name="textAreaRight" fmla="*/ 448920 w 471600"/>
              <a:gd name="textAreaTop" fmla="*/ 22680 h 1584360"/>
              <a:gd name="textAreaBottom" fmla="*/ 1561680 h 1584360"/>
            </a:gdLst>
            <a:ahLst/>
            <a:rect l="textAreaLeft" t="textAreaTop" r="textAreaRight" b="textAreaBottom"/>
            <a:pathLst>
              <a:path w="21600" h="72527">
                <a:moveTo>
                  <a:pt x="3600" y="0"/>
                </a:moveTo>
                <a:arcTo wR="3600" hR="3600" stAng="16200000" swAng="-5400000"/>
                <a:lnTo>
                  <a:pt x="0" y="68927"/>
                </a:lnTo>
                <a:arcTo wR="3600" hR="3600" stAng="10800000" swAng="-5400000"/>
                <a:lnTo>
                  <a:pt x="18000" y="725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12"/>
          <p:cNvSpPr/>
          <p:nvPr/>
        </p:nvSpPr>
        <p:spPr>
          <a:xfrm>
            <a:off x="1895400" y="3716280"/>
            <a:ext cx="1163880" cy="1944720"/>
          </a:xfrm>
          <a:custGeom>
            <a:avLst/>
            <a:gdLst>
              <a:gd name="textAreaLeft" fmla="*/ 56520 w 1163880"/>
              <a:gd name="textAreaRight" fmla="*/ 1107360 w 1163880"/>
              <a:gd name="textAreaTop" fmla="*/ 56520 h 1944720"/>
              <a:gd name="textAreaBottom" fmla="*/ 1888200 h 1944720"/>
            </a:gdLst>
            <a:ahLst/>
            <a:rect l="textAreaLeft" t="textAreaTop" r="textAreaRight" b="textAreaBottom"/>
            <a:pathLst>
              <a:path w="21600" h="36087">
                <a:moveTo>
                  <a:pt x="3600" y="0"/>
                </a:moveTo>
                <a:arcTo wR="3600" hR="3600" stAng="16200000" swAng="-5400000"/>
                <a:lnTo>
                  <a:pt x="0" y="32487"/>
                </a:lnTo>
                <a:arcTo wR="3600" hR="3600" stAng="10800000" swAng="-5400000"/>
                <a:lnTo>
                  <a:pt x="18000" y="36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le 13"/>
          <p:cNvSpPr/>
          <p:nvPr/>
        </p:nvSpPr>
        <p:spPr>
          <a:xfrm>
            <a:off x="6300720" y="404640"/>
            <a:ext cx="647640" cy="1584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360"/>
              <a:gd name="textAreaBottom" fmla="*/ 1553040 h 1584360"/>
            </a:gdLst>
            <a:ahLst/>
            <a:rect l="textAreaLeft" t="textAreaTop" r="textAreaRight" b="textAreaBottom"/>
            <a:pathLst>
              <a:path w="21600" h="52824">
                <a:moveTo>
                  <a:pt x="3600" y="0"/>
                </a:moveTo>
                <a:arcTo wR="3600" hR="3600" stAng="16200000" swAng="-5400000"/>
                <a:lnTo>
                  <a:pt x="0" y="49224"/>
                </a:lnTo>
                <a:arcTo wR="3600" hR="3600" stAng="10800000" swAng="-5400000"/>
                <a:lnTo>
                  <a:pt x="18000" y="5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14"/>
          <p:cNvSpPr/>
          <p:nvPr/>
        </p:nvSpPr>
        <p:spPr>
          <a:xfrm>
            <a:off x="6310440" y="4348080"/>
            <a:ext cx="647640" cy="1584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360"/>
              <a:gd name="textAreaBottom" fmla="*/ 1553040 h 1584360"/>
            </a:gdLst>
            <a:ahLst/>
            <a:rect l="textAreaLeft" t="textAreaTop" r="textAreaRight" b="textAreaBottom"/>
            <a:pathLst>
              <a:path w="21600" h="52824">
                <a:moveTo>
                  <a:pt x="3600" y="0"/>
                </a:moveTo>
                <a:arcTo wR="3600" hR="3600" stAng="16200000" swAng="-5400000"/>
                <a:lnTo>
                  <a:pt x="0" y="49224"/>
                </a:lnTo>
                <a:arcTo wR="3600" hR="3600" stAng="10800000" swAng="-5400000"/>
                <a:lnTo>
                  <a:pt x="18000" y="5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verty rates by housing ten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le 7"/>
          <p:cNvSpPr/>
          <p:nvPr/>
        </p:nvSpPr>
        <p:spPr>
          <a:xfrm>
            <a:off x="5508720" y="3213000"/>
            <a:ext cx="1584360" cy="360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8"/>
          <p:cNvSpPr/>
          <p:nvPr/>
        </p:nvSpPr>
        <p:spPr>
          <a:xfrm>
            <a:off x="7251840" y="4078440"/>
            <a:ext cx="1584360" cy="288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9"/>
          <p:cNvSpPr/>
          <p:nvPr/>
        </p:nvSpPr>
        <p:spPr>
          <a:xfrm>
            <a:off x="7236000" y="4724280"/>
            <a:ext cx="1584000" cy="289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10"/>
          <p:cNvSpPr/>
          <p:nvPr/>
        </p:nvSpPr>
        <p:spPr>
          <a:xfrm>
            <a:off x="2987640" y="3213000"/>
            <a:ext cx="2305080" cy="93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11"/>
          <p:cNvSpPr/>
          <p:nvPr/>
        </p:nvSpPr>
        <p:spPr>
          <a:xfrm>
            <a:off x="1187280" y="3213000"/>
            <a:ext cx="1656000" cy="576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12"/>
          <p:cNvSpPr/>
          <p:nvPr/>
        </p:nvSpPr>
        <p:spPr>
          <a:xfrm>
            <a:off x="7236000" y="5084640"/>
            <a:ext cx="1584000" cy="648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13"/>
          <p:cNvSpPr/>
          <p:nvPr/>
        </p:nvSpPr>
        <p:spPr>
          <a:xfrm rot="19196400">
            <a:off x="915840" y="4579920"/>
            <a:ext cx="2114640" cy="6001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7236000" y="3718080"/>
            <a:ext cx="1584000" cy="288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Scots have a different view of the ‘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necessities of lif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’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we use the same consensual standard for judging poverty in Scotland as in RoUK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poverty higher in Scotland and, if so, for whom and wh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about broader picture of economic resources or financial stre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4"/>
          <p:cNvSpPr/>
          <p:nvPr/>
        </p:nvSpPr>
        <p:spPr>
          <a:xfrm>
            <a:off x="7308720" y="981000"/>
            <a:ext cx="1835280" cy="2376720"/>
          </a:xfrm>
          <a:prstGeom prst="wedgeRoundRectCallout">
            <a:avLst>
              <a:gd name="adj1" fmla="val -65555"/>
              <a:gd name="adj2" fmla="val 31472"/>
              <a:gd name="adj3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riv. hlth 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Holiday a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econd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eco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econd bth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Hom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privation (22 item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come (BHC, AHC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Quality of goo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sessment of seven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uxuries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x items owned by only mino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Financial stres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eping up with b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bts or arr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orrowing - 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hart 3" descr=""/>
          <p:cNvPicPr/>
          <p:nvPr/>
        </p:nvPicPr>
        <p:blipFill>
          <a:blip r:embed="rId1"/>
          <a:stretch/>
        </p:blipFill>
        <p:spPr>
          <a:xfrm>
            <a:off x="536400" y="1481040"/>
            <a:ext cx="839484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conomic resources &amp; financial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55520" y="1197000"/>
            <a:ext cx="2255760" cy="5256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2916360" y="2043000"/>
            <a:ext cx="59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mbined factor score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ome (AHC – PSE and F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rivation (22 i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of goods (seven rat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ncial stress (multiple qns on keeping up with bills, debts, borrow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using problems (multiple qns on: physical conditions; heating affordability; satisfaction and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5548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K consensual poverty measure can be applied to Scotland – attitudes no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verty in Scotland around one fifth lower than RoUK on several meas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.200,000 fewer in poverty than if UK rates had appl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ill very large in absolute terms and relative to other EU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00k poor on PSE mea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verty shift over last 10 years – difficult to attribute to policy ‘made in Scotland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250920" y="587700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ws about which items are “necessities” (at least 50% supp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50920" y="3357720"/>
          <a:ext cx="7057800" cy="3219120"/>
        </p:xfrm>
        <a:graphic>
          <a:graphicData uri="http://schemas.openxmlformats.org/drawingml/2006/table">
            <a:tbl>
              <a:tblPr/>
              <a:tblGrid>
                <a:gridCol w="1944720"/>
                <a:gridCol w="1627200"/>
                <a:gridCol w="1742760"/>
                <a:gridCol w="1743120"/>
              </a:tblGrid>
              <a:tr h="110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wed as necessities in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in Sco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20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 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20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41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9" name="TextBox 7"/>
          <p:cNvSpPr/>
          <p:nvPr/>
        </p:nvSpPr>
        <p:spPr>
          <a:xfrm>
            <a:off x="7380360" y="56577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nnon &amp; Bailey (2014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Social Policy &amp; Societ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3 (3), 32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708360" y="3284640"/>
            <a:ext cx="19432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580000" y="3357720"/>
            <a:ext cx="1800360" cy="33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7380360" y="56577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nnon &amp; Bailey (2014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Social Policy &amp; Societ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3 (3), 32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1601640"/>
            <a:ext cx="6896160" cy="525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-39600" y="1619280"/>
            <a:ext cx="6883200" cy="5108400"/>
          </a:xfrm>
          <a:prstGeom prst="rect">
            <a:avLst/>
          </a:prstGeom>
          <a:ln w="0">
            <a:noFill/>
          </a:ln>
        </p:spPr>
      </p:pic>
      <p:sp>
        <p:nvSpPr>
          <p:cNvPr id="67" name="Oval 8"/>
          <p:cNvSpPr/>
          <p:nvPr/>
        </p:nvSpPr>
        <p:spPr>
          <a:xfrm>
            <a:off x="2989440" y="6413400"/>
            <a:ext cx="1295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0" y="3500280"/>
            <a:ext cx="468360" cy="115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7380360" y="56577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nnon &amp; Bailey (2014)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Social Policy &amp; Societ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3 (3), 32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0" y="1609560"/>
            <a:ext cx="7077240" cy="524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1600200"/>
            <a:ext cx="7095960" cy="52578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7"/>
          <p:cNvCxnSpPr/>
          <p:nvPr/>
        </p:nvCxnSpPr>
        <p:spPr>
          <a:xfrm>
            <a:off x="2843280" y="3500280"/>
            <a:ext cx="721440" cy="434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TextBox 8"/>
          <p:cNvSpPr/>
          <p:nvPr/>
        </p:nvSpPr>
        <p:spPr>
          <a:xfrm>
            <a:off x="1619280" y="2852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Friends round once a fort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Setting the poverty stand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ews about necessities virtually identical – appropriate to use single ‘UK’ stand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firms results from 1999 (Pantazis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2006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its with wider research on social and political attitud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 of Scotland as ‘distinct’ or more ‘progressive’ in this regard tends to be over-st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ults suffering deprivations (‘00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344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one million people cannot afford adequate housing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than 200,000 children live in homes that are dam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most one in three people (30%) cannot afford to heat their homes adequately in the win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ound 350,000 children live in cold homes in w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00,000 too poor to engage in common social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 quarter of a million children and adults not properly f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ver 400,000 adults go without essential clot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in five adults had to borrow in last year to pay for day to day nee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in Scot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1090440"/>
          <a:ext cx="6193080" cy="5783400"/>
        </p:xfrm>
        <a:graphic>
          <a:graphicData uri="http://schemas.openxmlformats.org/drawingml/2006/table">
            <a:tbl>
              <a:tblPr/>
              <a:tblGrid>
                <a:gridCol w="4415040"/>
                <a:gridCol w="981000"/>
                <a:gridCol w="797040"/>
              </a:tblGrid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savings  (of at least £2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in a decent state of dec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ace/repair broken elec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Insu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pairs of all weather sh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mp-free 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priate clothes for job intervi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hobby or leisure activ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arm waterproof c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 fruit/veg. da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 friends/family in hosp.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 weddings, funerals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ebrations on special occca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adequately w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t, etc. every oth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meals a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13:00:53Z</dcterms:created>
  <dc:creator>Nick Bailey</dc:creator>
  <dc:description/>
  <dc:language>en-US</dc:language>
  <cp:lastModifiedBy>User</cp:lastModifiedBy>
  <dcterms:modified xsi:type="dcterms:W3CDTF">2014-08-31T10:15:12Z</dcterms:modified>
  <cp:revision>131</cp:revision>
  <dc:subject/>
  <dc:title>PSE Conference slide</dc:title>
</cp:coreProperties>
</file>